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01B38-4C00-4FA9-BDED-5C99AF242F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1CD35-E2ED-47BE-B2E7-5724FD838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1BDDD-73A1-483C-AD90-0689CA6909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196-D294-4950-A1B5-2D563C9E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0DB-71AA-45A2-89A9-1EDB1A3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929-9BA4-4751-BBD9-B4569734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733-C84E-4FB9-9C1E-9E907FED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029-B5FA-4E10-98C2-7E44FCB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79E-E7E0-462C-ABE9-911BE357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CA4-9E78-4E10-9461-F16CB76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040-F12A-47FA-AE1F-85C4571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2A5-259C-4836-8B2D-3977EE0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EDD-701A-4469-91F8-24042FC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74B-ADCD-45C8-80DE-EE0C094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4D5-A80D-494B-81E1-CD30E2C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1CE83-3086-4F6F-A84D-EF6CD3414F6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A5DAD-2E76-4AA9-8358-9A4C24CD81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arts of Speech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American L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ames a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erson: Jimmy, farmer, Mr. Jo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lace: classroom, Utah, dese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ubcategories of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Visible things: dog, flow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deas: democracy, fai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ctions: labor, competi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onditions: happiness, lo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Qualities: intelligence, resp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ncrete and Abstract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ncre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something you can see, touch, taste, hear, or sm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p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Build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Abstra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something you cannot perceive through any of your five sen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ait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Lo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790640" y="4683240"/>
            <a:ext cx="114300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Singular and Plural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ingular nouns name one person, place, or 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poster, flag, p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lural nouns name more than one person, place, or 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Most plural nouns are formed by adding –s or –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ome are formed in another w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posters, flags, pe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leaf-leaves, mouse-m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llective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ames a group of people or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rm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bush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herd (like elk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Content Placeholder 4" descr=""/>
          <p:cNvPicPr/>
          <p:nvPr/>
        </p:nvPicPr>
        <p:blipFill>
          <a:blip r:embed="rId1"/>
          <a:srcRect l="0" t="-34672" r="0" b="-3467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pound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un made up of two or more words functioning as a single un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May be written as separate words, hyphenated words, or combined wo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heck a dictionary if not sure of how a word is spell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parated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life preserver, coffee mu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Hyphenate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on-in-law, self-govern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bined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mockingbird, bathtu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mon and Prope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 names any one of a class of people, places, or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ctress, school, boo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 names a specific person, place, or 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 are capitalized while common nouns are no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Reese Witherspoon, Peoria Notre Dam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Wick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Links fo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a Noun?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un Para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un qui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4:37:37Z</dcterms:created>
  <dc:creator>ndadmin</dc:creator>
  <dc:description/>
  <dc:language>en-US</dc:language>
  <cp:lastModifiedBy>Katherine Hausauer</cp:lastModifiedBy>
  <cp:lastPrinted>2008-10-27T18:26:57Z</cp:lastPrinted>
  <dcterms:modified xsi:type="dcterms:W3CDTF">2010-12-07T20:41:00Z</dcterms:modified>
  <cp:revision>9</cp:revision>
  <dc:subject/>
  <dc:title>Parts of Speech American Lit</dc:title>
</cp:coreProperties>
</file>